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8.jpeg" ContentType="image/jpeg"/>
  <Override PartName="/ppt/media/image35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7.jpeg" ContentType="image/jpeg"/>
  <Override PartName="/ppt/media/image38.jpeg" ContentType="image/jpeg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5CC-F5BB-41AD-AB70-AE21E7E5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D0E-59CD-4AAA-B761-37F22D2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935-6758-4E24-8EEB-EE073E63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5A0-DCCA-4056-8F3F-E105780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4285-3BC8-424A-B9F1-F0120E1F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285B-FA1D-4689-B0FE-EEB37EC1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CD29-4F49-4C7C-9F8E-24349E6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A882-3400-416B-909B-F184F671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B446-7419-4FF5-AB33-17D444B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205-C098-4F6B-829C-73289C52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3F6B-F6CA-4DA5-8147-D1D61CA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25E-5FA2-4037-8488-8DC3EA76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34C9-1E96-4BD0-8B86-E9CD366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51F0-8A6D-4C07-83C7-4D1D0F9A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1814-1BFF-421C-91CC-5B99C1B6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52A3-9CE2-43C5-8AA6-3A662069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A08A-6154-4B8F-951A-F9B12D01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36F-91AC-4907-A03F-38B34DC2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97D-7F28-4181-918A-D1806CE8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310-4ADF-4FC3-8B19-DD3B53AE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539-F0EC-4B1D-B1B9-FEDED3F4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231-3234-49C9-9A9B-273B6872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C96-CC1C-41B5-826E-F7DDD6A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31D-36EA-4F32-8D22-B1446D8E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28C-E823-44DA-A02E-F2CBF6C53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7AE8-64A3-4E44-8D15-A000297510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51.xml"/><Relationship Id="rId25" Type="http://schemas.openxmlformats.org/officeDocument/2006/relationships/slide" Target="slide54.xml"/><Relationship Id="rId26" Type="http://schemas.openxmlformats.org/officeDocument/2006/relationships/image" Target="../media/image2.jpeg"/><Relationship Id="rId27" Type="http://schemas.openxmlformats.org/officeDocument/2006/relationships/image" Target="../media/image3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Monotype Corsiva"/>
              </a:rPr>
              <a:t>Кровь и кровообращение</a:t>
            </a:r>
            <a:r>
              <a:rPr b="1" lang="ru-RU" sz="8000" spc="-1" strike="noStrike">
                <a:solidFill>
                  <a:srgbClr val="f8f8f8"/>
                </a:solidFill>
                <a:latin typeface="Monotype Corsiva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90920" y="4343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нтеллектуальная игра для восьмикласс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j0310560"/>
          <p:cNvPicPr/>
          <p:nvPr/>
        </p:nvPicPr>
        <p:blipFill>
          <a:blip r:embed="rId1"/>
          <a:stretch/>
        </p:blipFill>
        <p:spPr>
          <a:xfrm>
            <a:off x="0" y="3124080"/>
            <a:ext cx="3886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4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7040" y="1371240"/>
            <a:ext cx="861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анспортная фун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нос кислорода и питательных вещ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щитная фун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вертываемость кров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5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человеку можно вводить в кровь физиологический  раствор, но нельзя  вливать во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Картинка 16 из 8143"/>
          <p:cNvPicPr/>
          <p:nvPr/>
        </p:nvPicPr>
        <p:blipFill>
          <a:blip r:embed="rId1"/>
          <a:stretch/>
        </p:blipFill>
        <p:spPr>
          <a:xfrm>
            <a:off x="1676520" y="25909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5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38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нтрация солей в клетках крови и в плазме одинаковая. Вода снижает концентрацию солей в плазме. Вода, в следствие диффузии, будет проникать в эритроциты и лейкоциты, снижая концентрацию солей в них. Клетки крови будут набухать и лоп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http://im6-tub.yandex.net/i?id=49073506-12"/>
          <p:cNvPicPr/>
          <p:nvPr/>
        </p:nvPicPr>
        <p:blipFill>
          <a:blip r:embed="rId2"/>
          <a:stretch/>
        </p:blipFill>
        <p:spPr>
          <a:xfrm>
            <a:off x="4572000" y="2286000"/>
            <a:ext cx="4237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</a:rPr>
              <a:t>Клетки крови 1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новорожденного эритроцитов в крови больше, чем у взрослого человека. С чем это связа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Mumie"/>
          <p:cNvPicPr/>
          <p:nvPr/>
        </p:nvPicPr>
        <p:blipFill>
          <a:blip r:embed="rId1"/>
          <a:stretch/>
        </p:blipFill>
        <p:spPr>
          <a:xfrm>
            <a:off x="5638680" y="5334120"/>
            <a:ext cx="1600200" cy="132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umie"/>
          <p:cNvPicPr/>
          <p:nvPr/>
        </p:nvPicPr>
        <p:blipFill>
          <a:blip r:embed="rId2"/>
          <a:stretch/>
        </p:blipFill>
        <p:spPr>
          <a:xfrm>
            <a:off x="373392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umie"/>
          <p:cNvPicPr/>
          <p:nvPr/>
        </p:nvPicPr>
        <p:blipFill>
          <a:blip r:embed="rId3"/>
          <a:stretch/>
        </p:blipFill>
        <p:spPr>
          <a:xfrm>
            <a:off x="190512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umie"/>
          <p:cNvPicPr/>
          <p:nvPr/>
        </p:nvPicPr>
        <p:blipFill>
          <a:blip r:embed="rId4"/>
          <a:stretch/>
        </p:blipFill>
        <p:spPr>
          <a:xfrm>
            <a:off x="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Mumie"/>
          <p:cNvPicPr/>
          <p:nvPr/>
        </p:nvPicPr>
        <p:blipFill>
          <a:blip r:embed="rId5"/>
          <a:stretch/>
        </p:blipFill>
        <p:spPr>
          <a:xfrm>
            <a:off x="7620120" y="54100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 u="sng">
                <a:solidFill>
                  <a:srgbClr val="99cc00"/>
                </a:solidFill>
                <a:uFillTx/>
                <a:latin typeface="Times New Roman"/>
                <a:hlinkClick r:id="rId1" action="ppaction://hlinksldjump"/>
              </a:rPr>
              <a:t>Клетки крови 1 - Ответ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4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ганизм младенца нуждается в большем количестве эритроцитов, так как очень быстро раст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http://www.isteroids.com/blog/wp-content/uploads/2010/04/use-of-stem-cells-for-modeling-infant-birth-defect.jpg"/>
          <p:cNvPicPr/>
          <p:nvPr/>
        </p:nvPicPr>
        <p:blipFill>
          <a:blip r:embed="rId2"/>
          <a:stretch/>
        </p:blipFill>
        <p:spPr>
          <a:xfrm>
            <a:off x="449568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2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донорской крови удаляют соли кальция путем добавления веществ, выводящих эти соли в осадок. Зачем это дел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Картинка 19 из 213"/>
          <p:cNvPicPr/>
          <p:nvPr/>
        </p:nvPicPr>
        <p:blipFill>
          <a:blip r:embed="rId1"/>
          <a:stretch/>
        </p:blipFill>
        <p:spPr>
          <a:xfrm>
            <a:off x="4952880" y="1219320"/>
            <a:ext cx="3990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99cc00"/>
                </a:solidFill>
                <a:uFillTx/>
                <a:latin typeface="Times New Roman"/>
                <a:hlinkClick r:id="rId1" action="ppaction://hlinksldjump"/>
              </a:rPr>
              <a:t>Клетки крови 2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0" y="837720"/>
            <a:ext cx="4114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норскую кровь переливают людям, которые в этом нуждаются. В результате удаления кальция эта кровь не свертывается и ее можно хранить долго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Картинка 24 из 213"/>
          <p:cNvPicPr/>
          <p:nvPr/>
        </p:nvPicPr>
        <p:blipFill>
          <a:blip r:embed="rId2"/>
          <a:stretch/>
        </p:blipFill>
        <p:spPr>
          <a:xfrm>
            <a:off x="0" y="1600200"/>
            <a:ext cx="5038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3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кроветворный орган; его основную массу составляют клетки крови. Орган представлен в разных частях организма, и на него приходится около 1,5% массы тела. Он чрезвычайно чувствителен к ионизирующим излучениям, которые оказывают на него отрицательное воздействие. Назовите этот орган и укажите его место в организ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3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асный костный мозг, который в течение всей жизни сохраняется в губчатом веществе плоских костей (ребрах, грудине, костях таза, черепа), а также позвонков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инных трубчат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ст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Картинка 18 из 211"/>
          <p:cNvPicPr/>
          <p:nvPr/>
        </p:nvPicPr>
        <p:blipFill>
          <a:blip r:embed="rId1"/>
          <a:stretch/>
        </p:blipFill>
        <p:spPr>
          <a:xfrm>
            <a:off x="4952880" y="36576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4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у осьминогов «голубая кровь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Картинка 10 из 57302"/>
          <p:cNvPicPr/>
          <p:nvPr/>
        </p:nvPicPr>
        <p:blipFill>
          <a:blip r:embed="rId1"/>
          <a:stretch/>
        </p:blipFill>
        <p:spPr>
          <a:xfrm>
            <a:off x="3124080" y="16765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f8f8"/>
                </a:solidFill>
                <a:latin typeface="Monotype Corsiva"/>
              </a:rPr>
              <a:t>Игровое поле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762120"/>
          <a:ext cx="8610480" cy="5927760"/>
        </p:xfrm>
        <a:graphic>
          <a:graphicData uri="http://schemas.openxmlformats.org/drawingml/2006/table">
            <a:tbl>
              <a:tblPr/>
              <a:tblGrid>
                <a:gridCol w="2295360"/>
                <a:gridCol w="1265400"/>
                <a:gridCol w="1261800"/>
                <a:gridCol w="1263960"/>
                <a:gridCol w="1260360"/>
                <a:gridCol w="126360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Плаз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ле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Иммунит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Сердц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оо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53" descr="http://im5-tub.yandex.net/i?id=70435203-04"/>
          <p:cNvPicPr/>
          <p:nvPr/>
        </p:nvPicPr>
        <p:blipFill>
          <a:blip r:embed="rId26"/>
          <a:stretch/>
        </p:blipFill>
        <p:spPr>
          <a:xfrm>
            <a:off x="1600200" y="2286000"/>
            <a:ext cx="990720" cy="866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4" descr="http://wfisher11.files.wordpress.com/2010/03/fig21.jpg"/>
          <p:cNvPicPr/>
          <p:nvPr/>
        </p:nvPicPr>
        <p:blipFill>
          <a:blip r:embed="rId27"/>
          <a:srcRect l="8543" t="1594" r="75987" b="0"/>
          <a:stretch/>
        </p:blipFill>
        <p:spPr>
          <a:xfrm>
            <a:off x="457200" y="762120"/>
            <a:ext cx="638280" cy="990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5" descr="http://im0-tub.yandex.net/i?id=79949224-02"/>
          <p:cNvPicPr/>
          <p:nvPr/>
        </p:nvPicPr>
        <p:blipFill>
          <a:blip r:embed="rId28"/>
          <a:stretch/>
        </p:blipFill>
        <p:spPr>
          <a:xfrm>
            <a:off x="914400" y="3276720"/>
            <a:ext cx="1085760" cy="850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6" descr="http://im0-tub.yandex.net/i?id=22378167-14"/>
          <p:cNvPicPr/>
          <p:nvPr/>
        </p:nvPicPr>
        <p:blipFill>
          <a:blip r:embed="rId29"/>
          <a:stretch/>
        </p:blipFill>
        <p:spPr>
          <a:xfrm>
            <a:off x="304920" y="4876920"/>
            <a:ext cx="1022400" cy="838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7" descr="http://im2-tub.yandex.net/i?id=112797627-11"/>
          <p:cNvPicPr/>
          <p:nvPr/>
        </p:nvPicPr>
        <p:blipFill>
          <a:blip r:embed="rId30"/>
          <a:stretch/>
        </p:blipFill>
        <p:spPr>
          <a:xfrm>
            <a:off x="1600200" y="5638680"/>
            <a:ext cx="961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4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о железа в состав крови у них входит ме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Картинка 15 из 57302"/>
          <p:cNvPicPr/>
          <p:nvPr/>
        </p:nvPicPr>
        <p:blipFill>
          <a:blip r:embed="rId1"/>
          <a:stretch/>
        </p:blipFill>
        <p:spPr>
          <a:xfrm>
            <a:off x="3200400" y="2209680"/>
            <a:ext cx="5715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5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46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кого больше лейкоцитов – у плохо питающихся или нормально питающихся люде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Картинка 30 из 16446"/>
          <p:cNvPicPr/>
          <p:nvPr/>
        </p:nvPicPr>
        <p:blipFill>
          <a:blip r:embed="rId1"/>
          <a:stretch/>
        </p:blipFill>
        <p:spPr>
          <a:xfrm>
            <a:off x="4648320" y="990720"/>
            <a:ext cx="42195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5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4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нормально питающихся людей лейкоцит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льш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Картинка 9 из 22320"/>
          <p:cNvPicPr/>
          <p:nvPr/>
        </p:nvPicPr>
        <p:blipFill>
          <a:blip r:embed="rId1"/>
          <a:stretch/>
        </p:blipFill>
        <p:spPr>
          <a:xfrm>
            <a:off x="3733920" y="2362320"/>
            <a:ext cx="5238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Картинка 31 из 1015"/>
          <p:cNvPicPr/>
          <p:nvPr/>
        </p:nvPicPr>
        <p:blipFill>
          <a:blip r:embed="rId1"/>
          <a:stretch/>
        </p:blipFill>
        <p:spPr>
          <a:xfrm rot="1089000">
            <a:off x="561600" y="1600200"/>
            <a:ext cx="5208480" cy="3906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1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7960" y="45716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e99ff"/>
                </a:solidFill>
                <a:latin typeface="Arial"/>
              </a:rPr>
              <a:t>Что такое иммунитет? Зачем он нужен челове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1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299587"/>
          <p:cNvPicPr/>
          <p:nvPr/>
        </p:nvPicPr>
        <p:blipFill>
          <a:blip r:embed="rId1"/>
          <a:stretch/>
        </p:blipFill>
        <p:spPr>
          <a:xfrm>
            <a:off x="2971800" y="685800"/>
            <a:ext cx="5867280" cy="5856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вакцина отличается от лечебной сыворотки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2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e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3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я эпидемии оспы в Брэгвилле ковбой Джо заявил, что он переболел оспой и теперь она ему не страшна. Ковбой Билл ответил, что он не болел оспой и не заболеет, так как пережил уже не одну эпидемию. Если верить ковбоям, то они обладают иммунитетом. Какой иммунитет у Джо и какой иммунитет у Бил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3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Джо иммунитет естественный приобретенный, а у Билла – естественный врожденн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http://t3.gstatic.com/images?q=tbn:ANd9GcRWKYiIsfLoDfUBeJU7xM623K-KcUtsZkXXRyzMBvZlDeazFRE&amp;t=1&amp;usg=___ug6iv2P3WYTqymS5zS1xBhpBtA="/>
          <p:cNvPicPr/>
          <p:nvPr/>
        </p:nvPicPr>
        <p:blipFill>
          <a:blip r:embed="rId1"/>
          <a:stretch/>
        </p:blipFill>
        <p:spPr>
          <a:xfrm>
            <a:off x="4952880" y="3657600"/>
            <a:ext cx="3962520" cy="2968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ttp://s61.radikal.ru/i172/0905/c0/dae9eab5ae8c.jpg"/>
          <p:cNvPicPr/>
          <p:nvPr/>
        </p:nvPicPr>
        <p:blipFill>
          <a:blip r:embed="rId2"/>
          <a:stretch/>
        </p:blipFill>
        <p:spPr>
          <a:xfrm>
            <a:off x="533520" y="3657600"/>
            <a:ext cx="39621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4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232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99ff"/>
                </a:solidFill>
                <a:latin typeface="Arial"/>
              </a:rPr>
              <a:t>Как можно установить к чему именно у человека аллерг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j0231766"/>
          <p:cNvPicPr/>
          <p:nvPr/>
        </p:nvPicPr>
        <p:blipFill>
          <a:blip r:embed="rId1"/>
          <a:srcRect l="0" t="0" r="54747" b="26509"/>
          <a:stretch/>
        </p:blipFill>
        <p:spPr>
          <a:xfrm>
            <a:off x="304920" y="1905120"/>
            <a:ext cx="3581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1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цв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еет плазма кров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Клип 7" descr="http://wfisher11.files.wordpress.com/2010/03/fig21.jpg"/>
          <p:cNvPicPr/>
          <p:nvPr/>
        </p:nvPicPr>
        <p:blipFill>
          <a:blip r:embed="rId1"/>
          <a:srcRect l="8543" t="1594" r="75987" b="0"/>
          <a:stretch/>
        </p:blipFill>
        <p:spPr>
          <a:xfrm>
            <a:off x="6248520" y="1905120"/>
            <a:ext cx="1828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4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353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5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7f"/>
                </a:solidFill>
                <a:latin typeface="Arial"/>
              </a:rPr>
              <a:t>В литературе описаны многочисленные случаи, когда люди не чувствовали боли. Так, одна американка могла спокойно взять с плиты горячую кастрюлю или сковороду, даже не подозревая, что у других это должно быть причиной нестерпимой бо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e99ff"/>
                </a:solidFill>
                <a:latin typeface="Arial"/>
              </a:rPr>
              <a:t>Зачем нужна боль? Чем опасно ее отсутств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5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7040" y="2057040"/>
            <a:ext cx="861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99ff"/>
                </a:solidFill>
                <a:latin typeface="Arial"/>
              </a:rPr>
              <a:t>Боль – это сигнал опас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для нашего организма. Наличие боли показывает нам, что в организме не все в порядк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езамеченные раны и ожог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аличие  внутренних кровотечений и воспалений органов (аппендицит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аличие заболеваний (рак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ердце 1 </a:t>
            </a:r>
            <a:br>
              <a:rPr sz="6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6400" y="18288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человек не чувствует запаха, когда простуже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_41468436_sneezing203"/>
          <p:cNvPicPr/>
          <p:nvPr/>
        </p:nvPicPr>
        <p:blipFill>
          <a:blip r:embed="rId1"/>
          <a:stretch/>
        </p:blipFill>
        <p:spPr>
          <a:xfrm>
            <a:off x="304920" y="1905120"/>
            <a:ext cx="4724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1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ловек не чувствует запахов, когда простужен потому, что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бонятельные рецепторы у него не контактируют с молекулами пахучих вещест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з – за насморка, сопровождающего простуд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2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0" y="15238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стенка правого предсердия тоньше, чем стенка левог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6" descr="http://www.kardio.ru/images2/cor11.jpg"/>
          <p:cNvPicPr/>
          <p:nvPr/>
        </p:nvPicPr>
        <p:blipFill>
          <a:blip r:embed="rId1"/>
          <a:stretch/>
        </p:blipFill>
        <p:spPr>
          <a:xfrm>
            <a:off x="374760" y="1600200"/>
            <a:ext cx="444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2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овь от правого предсердия идет по малому кругу кровообращения, а от левого – к большому. Поэтому сила выброса крови в левом желудочке должна быть больше, а значит мышечная стенка должна быть развита лучш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3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людей злоупотребляющих пивом сердце большое. Почему? Хорошо это или плох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http://i587.photobucket.com/albums/ss315/inschrift/_______174.jpg"/>
          <p:cNvPicPr/>
          <p:nvPr/>
        </p:nvPicPr>
        <p:blipFill>
          <a:blip r:embed="rId1"/>
          <a:stretch/>
        </p:blipFill>
        <p:spPr>
          <a:xfrm>
            <a:off x="3581280" y="3416400"/>
            <a:ext cx="4572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3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людей злоупотребляющих пивом сердце большое за счет ожирения. Волокна сердечной мышцы частично разрушаются и заменяются соединительной (жировой) тканью. Такая ткань сокращаться не може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88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4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жно ли сохранить сердце отдельно от организма, если пропускать через него солевой раство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http://www.segodnya.ua/img/forall/a/140399/73.jpg"/>
          <p:cNvPicPr/>
          <p:nvPr/>
        </p:nvPicPr>
        <p:blipFill>
          <a:blip r:embed="rId1"/>
          <a:stretch/>
        </p:blipFill>
        <p:spPr>
          <a:xfrm>
            <a:off x="4724280" y="1523880"/>
            <a:ext cx="4267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1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53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азма крови имеет желтоват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Клип 7" descr="http://wfisher11.files.wordpress.com/2010/03/fig21.jpg"/>
          <p:cNvPicPr/>
          <p:nvPr/>
        </p:nvPicPr>
        <p:blipFill>
          <a:blip r:embed="rId2"/>
          <a:srcRect l="8543" t="1594" r="75987" b="0"/>
          <a:stretch/>
        </p:blipFill>
        <p:spPr>
          <a:xfrm>
            <a:off x="7010280" y="1219320"/>
            <a:ext cx="1954440" cy="4038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http://im3-tub.yandex.net/i?id=107461914-00"/>
          <p:cNvPicPr/>
          <p:nvPr/>
        </p:nvPicPr>
        <p:blipFill>
          <a:blip r:embed="rId3"/>
          <a:stretch/>
        </p:blipFill>
        <p:spPr>
          <a:xfrm>
            <a:off x="2133720" y="3809880"/>
            <a:ext cx="35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4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. Сердц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лад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номи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б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http://cardiophile.com/wp-content/uploads/2008/01/heart-in-hands.jpg"/>
          <p:cNvPicPr/>
          <p:nvPr/>
        </p:nvPicPr>
        <p:blipFill>
          <a:blip r:embed="rId1"/>
          <a:stretch/>
        </p:blipFill>
        <p:spPr>
          <a:xfrm>
            <a:off x="3962520" y="1600200"/>
            <a:ext cx="4762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5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4" name="Picture 6" descr="j0298897"/>
          <p:cNvPicPr/>
          <p:nvPr/>
        </p:nvPicPr>
        <p:blipFill>
          <a:blip r:embed="rId1"/>
          <a:stretch/>
        </p:blipFill>
        <p:spPr>
          <a:xfrm>
            <a:off x="4343400" y="2514600"/>
            <a:ext cx="4495680" cy="3927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5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8480" y="11430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DSCN2097"/>
          <p:cNvPicPr/>
          <p:nvPr/>
        </p:nvPicPr>
        <p:blipFill>
          <a:blip r:embed="rId1"/>
          <a:stretch/>
        </p:blipFill>
        <p:spPr>
          <a:xfrm>
            <a:off x="380880" y="12952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9d9ff"/>
                </a:solidFill>
                <a:latin typeface="Comic Sans MS"/>
              </a:rPr>
              <a:t>Кровообращение 1 </a:t>
            </a:r>
            <a:br>
              <a:rPr sz="54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Picture 6" descr="j0199301"/>
          <p:cNvPicPr/>
          <p:nvPr/>
        </p:nvPicPr>
        <p:blipFill>
          <a:blip r:embed="rId1"/>
          <a:stretch/>
        </p:blipFill>
        <p:spPr>
          <a:xfrm>
            <a:off x="2362320" y="1828800"/>
            <a:ext cx="6781680" cy="40561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систему кровообращения называют «транспортной системо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1 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Органы кровообращения доставляют кислород к тканям и органам и уносят продукты обмена вещест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DSCN2093"/>
          <p:cNvPicPr/>
          <p:nvPr/>
        </p:nvPicPr>
        <p:blipFill>
          <a:blip r:embed="rId1"/>
          <a:srcRect l="24172" t="22589" r="25387" b="22802"/>
          <a:stretch/>
        </p:blipFill>
        <p:spPr>
          <a:xfrm>
            <a:off x="4267080" y="1828800"/>
            <a:ext cx="4648320" cy="37735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2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давление в венах ниже, чем в артерия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2 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f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DSCN2093"/>
          <p:cNvPicPr/>
          <p:nvPr/>
        </p:nvPicPr>
        <p:blipFill>
          <a:blip r:embed="rId1"/>
          <a:srcRect l="24172" t="22592" r="25385" b="22803"/>
          <a:stretch/>
        </p:blipFill>
        <p:spPr>
          <a:xfrm>
            <a:off x="4114800" y="1371600"/>
            <a:ext cx="4730760" cy="3546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3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гда ли по артериям течет только артериальная кров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200400" y="6172200"/>
            <a:ext cx="1066680" cy="457200"/>
          </a:xfrm>
          <a:prstGeom prst="can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4167 0.02454 C 0.04445 0.00417 0.04289 -0.00486 0.05504 -0.01551 C 0.05712 -0.02453 0.06164 -0.02662 0.06667 -0.03333 C 0.06875 -0.04398 0.06684 -0.04768 0.075 -0.05092 C 0.07605 -0.05254 0.07691 -0.05439 0.0783 -0.05555 C 0.07986 -0.05671 0.08212 -0.05602 0.08334 -0.05764 C 0.09289 -0.0699 0.07639 -0.06018 0.08993 -0.06666 C 0.13386 -0.06365 0.11875 -0.07268 0.13993 -0.04444 C 0.14202 -0.03634 0.14792 -0.03032 0.15 -0.02222 C 0.15226 -0.01365 0.15348 -0.00578 0.1566 0.00232 C 0.15157 0.0257 0.15139 0.02153 0.13334 0.02454 C 0.12726 0.02385 0.12084 0.02454 0.11493 0.02223 C 0.11094 0.02084 0.1073 0.00718 0.10174 0.00232 C 0.10278 -0.0125 0.10365 -0.02731 0.10504 -0.04213 C 0.10521 -0.04444 0.10539 -0.04722 0.1066 -0.04884 C 0.10938 -0.05254 0.11337 -0.05463 0.11667 -0.05764 C 0.11841 -0.05902 0.1217 -0.06203 0.1217 -0.0618 C 0.12848 -0.07592 0.12327 -0.06736 0.14167 -0.08217 C 0.15851 -0.09583 0.17448 -0.1037 0.19341 -0.11111 C 0.21285 -0.10949 0.23247 -0.10949 0.25174 -0.10648 C 0.28091 -0.10208 0.25521 -0.10162 0.275 -0.09328 C 0.27934 -0.09143 0.28386 -0.09166 0.28837 -0.09097 C 0.29063 -0.08958 0.29271 -0.08773 0.29497 -0.08657 C 0.29827 -0.08495 0.30504 -0.08217 0.30504 -0.08194 C 0.33559 -0.05555 0.36459 -0.03611 0.40174 -0.03102 C 0.41111 -0.03171 0.42066 -0.03148 0.43004 -0.03333 C 0.43247 -0.03379 0.4342 -0.0368 0.43664 -0.03773 C 0.43993 -0.03889 0.44341 -0.03912 0.4467 -0.03981 C 0.46094 -0.04629 0.45278 -0.07615 0.45174 -0.09097 C 0.45087 -0.10486 0.42605 -0.11666 0.41667 -0.1199 C 0.40955 -0.12708 0.4033 -0.13102 0.39497 -0.13541 C 0.38559 -0.13402 0.37587 -0.13426 0.36667 -0.13102 C 0.36476 -0.13032 0.36424 -0.12662 0.36337 -0.1243 C 0.35973 -0.11481 0.35886 -0.10115 0.3566 -0.09097 C 0.36094 -0.07939 0.36129 -0.07477 0.36997 -0.07106 C 0.37813 -0.05463 0.39271 -0.05671 0.4066 -0.05555 C 0.52865 -0.05879 0.45504 -0.04676 0.49341 -0.06435 C 0.49844 -0.07453 0.49931 -0.06967 0.50504 -0.07777 C 0.50851 -0.09236 0.50382 -0.07523 0.51164 -0.09328 C 0.51459 -0.1 0.51511 -0.1081 0.51667 -0.11551 C 0.51389 -0.16898 0.5165 -0.19027 0.49497 -0.2287 C 0.48507 -0.24629 0.49271 -0.23819 0.48334 -0.24652 C 0.479 -0.25532 0.48091 -0.25879 0.47327 -0.26203 C 0.46945 -0.26736 0.46545 -0.27245 0.46164 -0.27777 C 0.4599 -0.28009 0.4573 -0.28102 0.45504 -0.28217 C 0.45348 -0.2831 0.45122 -0.28264 0.45 -0.28426 C 0.44914 -0.28541 0.45 -0.28727 0.45 -0.28889 E">
                                      <p:cBhvr>
                                        <p:cTn id="6" dur="5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3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5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т. По легочной артерии течет венозная кров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0" descr="66_2"/>
          <p:cNvPicPr/>
          <p:nvPr/>
        </p:nvPicPr>
        <p:blipFill>
          <a:blip r:embed="rId1"/>
          <a:stretch/>
        </p:blipFill>
        <p:spPr>
          <a:xfrm>
            <a:off x="4800600" y="182880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4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ть ли в пределах кровеносной системы сеть капилляров между двумя артериями? Если «да», то укажите г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2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состав име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зма кро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4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5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ть. Почечный клубочек в почечной капсул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0" descr="66_2"/>
          <p:cNvPicPr/>
          <p:nvPr/>
        </p:nvPicPr>
        <p:blipFill>
          <a:blip r:embed="rId1"/>
          <a:stretch/>
        </p:blipFill>
        <p:spPr>
          <a:xfrm>
            <a:off x="4800600" y="182880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3537f"/>
                </a:solidFill>
                <a:latin typeface="Comic Sans MS"/>
              </a:rPr>
              <a:t>Кот в мешке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2" name="Picture 3" descr="053-56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3551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762120"/>
            <a:ext cx="8842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38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альпинисты предпочитают носить солнцезащитные очки с зелеными стекл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s017"/>
          <p:cNvPicPr/>
          <p:nvPr/>
        </p:nvPicPr>
        <p:blipFill>
          <a:blip r:embed="rId1"/>
          <a:stretch/>
        </p:blipFill>
        <p:spPr>
          <a:xfrm>
            <a:off x="5334120" y="1828800"/>
            <a:ext cx="32115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Ответ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чки спасают </a:t>
            </a:r>
            <a:r>
              <a:rPr b="0" lang="ru-RU" sz="3800" spc="-1" strike="noStrike">
                <a:solidFill>
                  <a:srgbClr val="53537f"/>
                </a:solidFill>
                <a:latin typeface="Arial"/>
              </a:rPr>
              <a:t>от солнечных ожогов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, задерживая избыток ультрафиолетовых луче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омогают приобрести душевное равновесие. Для альпинистов зеленый – </a:t>
            </a:r>
            <a:r>
              <a:rPr b="0" lang="ru-RU" sz="3800" spc="-1" strike="noStrike">
                <a:solidFill>
                  <a:srgbClr val="53537f"/>
                </a:solidFill>
                <a:latin typeface="Arial"/>
              </a:rPr>
              <a:t>цвет безопасности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. При спуске с горы – добрался до зоны зеленого леса значит все сложности позад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3537f"/>
                </a:solidFill>
                <a:latin typeface="Comic Sans MS"/>
              </a:rPr>
              <a:t>Кот в мешке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0" name="Picture 8" descr="053-56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35514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495320" y="1905120"/>
            <a:ext cx="434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ля чего на денежных купюрах нужны «точки и тире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br>
              <a:rPr sz="60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4" name="Picture 7" descr="DSCN2133"/>
          <p:cNvPicPr/>
          <p:nvPr/>
        </p:nvPicPr>
        <p:blipFill>
          <a:blip r:embed="rId1"/>
          <a:srcRect l="19403" t="4747" r="39857" b="0"/>
          <a:stretch/>
        </p:blipFill>
        <p:spPr>
          <a:xfrm>
            <a:off x="685800" y="1523880"/>
            <a:ext cx="3124080" cy="4862520"/>
          </a:xfrm>
          <a:prstGeom prst="rect">
            <a:avLst/>
          </a:prstGeom>
          <a:ln w="0">
            <a:noFill/>
          </a:ln>
        </p:spPr>
      </p:pic>
      <p:sp>
        <p:nvSpPr>
          <p:cNvPr id="255" name="Oval 8"/>
          <p:cNvSpPr/>
          <p:nvPr/>
        </p:nvSpPr>
        <p:spPr>
          <a:xfrm>
            <a:off x="1523880" y="42670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1143000" y="31240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2590920" y="5562720"/>
            <a:ext cx="761760" cy="6094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2209680" y="49528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Ответ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очки и тире» служат для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распознава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номинала денежных купюр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слабовидящими людь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поэтому их поверхность вдавл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DSCN2133"/>
          <p:cNvPicPr/>
          <p:nvPr/>
        </p:nvPicPr>
        <p:blipFill>
          <a:blip r:embed="rId1"/>
          <a:srcRect l="19402" t="4744" r="39855" b="0"/>
          <a:stretch/>
        </p:blipFill>
        <p:spPr>
          <a:xfrm>
            <a:off x="5181480" y="1676520"/>
            <a:ext cx="36975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2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ло 0,9% плазмы приходится на поваренную соль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оли калия, кальция, фосфорной кислоты. Около 7% плазмы составляют белки (альбумины, глобулины, фибриноген). А также углекислый газ, глюкоза, питательные вещества и продукты рас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3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3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4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ую функцию в плазме выполняют бел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PC</cp:lastModifiedBy>
  <dcterms:modified xsi:type="dcterms:W3CDTF">2014-02-11T17:51:3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